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6385-9E64-495F-AC60-8086CCF66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sega tega ni moč doseči brez Razdelanega celovitega svežnja ukrepov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kjer so poleg ukrepov namenjenih raziskavam, razvoju in inovacijam tud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ukrepi za razvoj človeških virov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za področje podjetništv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in razvoja podežel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ter za spodbujevalne ukrepe razvojne države (javna naročila, davčne olajšave, gospodarska diplomacija in promocija, izdajo dovoljenj in odprava regulacijskih ovir ter učinkovito pravosodj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grada številke diapozitiva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FF94-50B5-4145-A8A6-A3E25BEF6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1EA-04D5-4660-8488-5335898C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B90-67AF-4E57-A530-4945FB5B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2AF-9E04-4C13-8294-FF2DFC03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FD1-D822-4F7B-97E5-2DFC3764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53C-9E7F-4770-B10D-EFB1FB4A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7A4E-EE88-4B4A-8270-9515D165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2512-EC4B-4220-8F81-C6702AB0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9FBD-4774-40C2-BC38-53184F7B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B2F1-99DF-472B-BA60-7EF1C80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3D92-B8B2-4FBC-A83E-D3C192CB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8C5C-9927-46A0-9246-286E896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D821-B96B-4146-9248-0AE718C6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7718-2B65-45FD-ADCE-21CAE29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4806-8BE0-46BB-BD67-D4CCECBB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6708-C75A-4089-90F3-23AE1040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4416-9596-4350-A339-E64E778E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9FB2-C0D6-448B-B5B1-45A8372C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B5E4-61A8-458A-BD66-C6111AFF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BF05-0C20-4DCC-B2AA-D8246CD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33F1-44D2-4E65-9D01-AA60BCB9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C14C-180D-4CF8-A05F-4F1B62F4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F493-2C38-4E2F-959D-CCFDEAC4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4BFF-89BD-4982-8F2E-33E227F3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77FB-AE5B-400A-B891-764171A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0E8B-1841-4AFB-B06F-32BF85B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5DE8-EB4B-40B7-A03B-6F2D94D6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FAC5-8C72-4D70-8E1C-9910F0E7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B01F-1BED-499B-821D-EC228705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7D34-474E-46B0-9864-374C6B25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8DDE-4CA6-4A19-9162-D5E2BAB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0C62-8F93-4F93-8C81-987522E4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CBD5-6196-4DE5-8678-305C51B0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5C40-706E-49DD-95F5-944CC58E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0F704-5DF7-4C0C-B2C3-B0C5CEA6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036C-D245-4CA7-9EF7-AF6F2FB9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B08-5F0E-4F54-A37A-BF13B934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AFB4-3C88-4589-9E55-431F5629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7263-67F4-453A-B558-95451B6E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0E6D-1781-45F1-A2B1-A6613954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8A606-BAF5-4606-B0FD-3F7588CC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6A23-907E-4F3F-8641-78F22379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6B08-8562-46E9-A23F-FBD849ED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2E22-E048-4486-90C7-B6BDDBC1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06D2-4C01-4EAA-A279-900181E1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6F9A2-3ACB-4E90-8D34-0BED3933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15CA-A516-4320-885B-B92146C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3407-570A-4928-8242-8128BB47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0A588-B809-4C0B-8AAE-AD8A59C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5D480-2D98-49B7-B560-21067042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96EF-7643-452F-A2E6-A56A732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5A59-12C7-4DF3-AB18-3B389EA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9EC1-91BF-4BFE-86DC-880EE8FC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4825C-67E3-47C8-BA47-E570143C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4E0-69C1-42C3-9111-9B7A7364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40D-3F12-4910-9B1B-AF442A8B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3C4-ACBB-4FA7-B1FB-F3B1A99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D15-B2C6-4BF8-9C43-08284290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1FC-2269-4A56-A56C-2DD1EEC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E5E-7FF6-4096-8840-26AA6F31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BB8-463A-4EC4-B77F-9816E42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83BF-8217-4177-B5C2-389EF43BF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865-8CB3-41A7-9506-DB2927E01D5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6DB6-E6DD-4905-B94D-56AF14C04C7D}" type="slidenum"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509B-6358-4D82-B445-8EFBD6275B1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EAE-123B-4481-8FEA-D057D022886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0" y="5418000"/>
            <a:ext cx="9144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lovenska Strategija pametne specializaci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4</a:t>
            </a: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10.11.2015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5" name="Picture 2" descr="naslovna slika 1"/>
          <p:cNvPicPr/>
          <p:nvPr/>
        </p:nvPicPr>
        <p:blipFill>
          <a:blip r:embed="rId1"/>
          <a:stretch/>
        </p:blipFill>
        <p:spPr>
          <a:xfrm>
            <a:off x="0" y="0"/>
            <a:ext cx="9174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SVEŽENJ UKREPOV</a:t>
            </a:r>
            <a:br>
              <a:rPr sz="4000"/>
            </a:b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    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6" name="Ograda številke diapozitiva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4014-8BE2-4CED-B9C4-7708C24093E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74296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Finančni del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5FEA-425C-4B3D-9F61-5A75845A54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425520" y="1404720"/>
            <a:ext cx="7773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901800" y="1359000"/>
          <a:ext cx="7515000" cy="4995720"/>
        </p:xfrm>
        <a:graphic>
          <a:graphicData uri="http://schemas.openxmlformats.org/drawingml/2006/table">
            <a:tbl>
              <a:tblPr/>
              <a:tblGrid>
                <a:gridCol w="3138480"/>
                <a:gridCol w="749160"/>
                <a:gridCol w="1530360"/>
                <a:gridCol w="1347840"/>
                <a:gridCol w="74916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2016-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prečno let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ž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5.483.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.827.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2014-202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.957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.319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498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sv-S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egralna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.526.5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508.8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jetništ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7.923.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974.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2014-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.923.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.974.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lna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loveški vi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34.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44.8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9.641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.547.0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6.353.8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117.9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.667.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.555.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.451.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483.8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.167.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389.3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555480" y="482760"/>
            <a:ext cx="69343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Finančni 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55120" y="2075040"/>
            <a:ext cx="7099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Raziskave, razvoj in inovacije v verigah in mrežah vrednos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Podpora naložb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Raziskovalna infrastruk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Raziskovalni potencial raziskovalcev in mednarodna mobi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Znanje in kompetence zaposlen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Mladi in ustvarja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Optimizacija podpornega okolja za podjetništvo in inovacije, s poudarkom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ovonastalih podjetjih in prenosu zn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podbujanju rasti in razvoja M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ternacionalizac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555480" y="482760"/>
            <a:ext cx="67183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Raziskave, razvoj in inovacije v verigah in mrežah vred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1"/>
          <a:stretch/>
        </p:blipFill>
        <p:spPr>
          <a:xfrm>
            <a:off x="619200" y="1490760"/>
            <a:ext cx="81118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82800" y="4067280"/>
            <a:ext cx="7253280" cy="2790720"/>
          </a:xfrm>
          <a:prstGeom prst="rect">
            <a:avLst/>
          </a:prstGeom>
          <a:noFill/>
          <a:ln w="28440">
            <a:solidFill>
              <a:srgbClr val="41719c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Povezava s </a:t>
            </a:r>
            <a:r>
              <a:rPr b="1" lang="sl-SI" sz="3200" spc="-1" strike="noStrike" u="sng">
                <a:solidFill>
                  <a:srgbClr val="ff0000"/>
                </a:solidFill>
                <a:uFillTx/>
                <a:latin typeface="Calibri"/>
              </a:rPr>
              <a:t>podpornim okolj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ovonastala podjetja in prenos zn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Rast in razvoj M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nfrastruktura + Finance + Vsebinska podpora + Poenoteno izvajanje in promo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F4A6-DFE2-42C1-A97D-6C903E3FA3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36920"/>
          </a:xfrm>
          <a:prstGeom prst="rect">
            <a:avLst/>
          </a:prstGeom>
          <a:ln w="0">
            <a:noFill/>
          </a:ln>
        </p:spPr>
      </p:pic>
      <p:sp>
        <p:nvSpPr>
          <p:cNvPr id="859" name="Dvosmerna navpična puščica 4"/>
          <p:cNvSpPr/>
          <p:nvPr/>
        </p:nvSpPr>
        <p:spPr>
          <a:xfrm>
            <a:off x="982800" y="3468600"/>
            <a:ext cx="218880" cy="424080"/>
          </a:xfrm>
          <a:prstGeom prst="upDown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Dvosmerna navpična puščica 6"/>
          <p:cNvSpPr/>
          <p:nvPr/>
        </p:nvSpPr>
        <p:spPr>
          <a:xfrm>
            <a:off x="174960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Dvosmerna navpična puščica 7"/>
          <p:cNvSpPr/>
          <p:nvPr/>
        </p:nvSpPr>
        <p:spPr>
          <a:xfrm>
            <a:off x="2540160" y="3468600"/>
            <a:ext cx="218880" cy="424080"/>
          </a:xfrm>
          <a:prstGeom prst="upDown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Dvosmerna navpična puščica 8"/>
          <p:cNvSpPr/>
          <p:nvPr/>
        </p:nvSpPr>
        <p:spPr>
          <a:xfrm>
            <a:off x="330516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Dvosmerna navpična puščica 9"/>
          <p:cNvSpPr/>
          <p:nvPr/>
        </p:nvSpPr>
        <p:spPr>
          <a:xfrm>
            <a:off x="407196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Dvosmerna navpična puščica 10"/>
          <p:cNvSpPr/>
          <p:nvPr/>
        </p:nvSpPr>
        <p:spPr>
          <a:xfrm>
            <a:off x="4862520" y="3468600"/>
            <a:ext cx="219240" cy="424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Dvosmerna navpična puščica 11"/>
          <p:cNvSpPr/>
          <p:nvPr/>
        </p:nvSpPr>
        <p:spPr>
          <a:xfrm>
            <a:off x="565308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Dvosmerna navpična puščica 12"/>
          <p:cNvSpPr/>
          <p:nvPr/>
        </p:nvSpPr>
        <p:spPr>
          <a:xfrm>
            <a:off x="6418440" y="3468600"/>
            <a:ext cx="218880" cy="424080"/>
          </a:xfrm>
          <a:prstGeom prst="upDown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Dvosmerna navpična puščica 13"/>
          <p:cNvSpPr/>
          <p:nvPr/>
        </p:nvSpPr>
        <p:spPr>
          <a:xfrm>
            <a:off x="7210440" y="3468600"/>
            <a:ext cx="219240" cy="424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Dvosmerna navpična puščica 14"/>
          <p:cNvSpPr/>
          <p:nvPr/>
        </p:nvSpPr>
        <p:spPr>
          <a:xfrm>
            <a:off x="8018640" y="3468600"/>
            <a:ext cx="217440" cy="42408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Desni zaviti oklepaj 1"/>
          <p:cNvSpPr/>
          <p:nvPr/>
        </p:nvSpPr>
        <p:spPr>
          <a:xfrm rot="5400000">
            <a:off x="4319640" y="3508560"/>
            <a:ext cx="504720" cy="439704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4397040"/>
              <a:gd name="textAreaBottom" fmla="*/ 4384080 h 43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649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Nefinančni del: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 Light"/>
              </a:rPr>
              <a:t>Razvojna držav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628560" y="2847960"/>
            <a:ext cx="788688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novativna in zelena javna naroč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avčne olajš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Gospodarska diplomacija in promo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daja dovoljenj in odprava regulacijskih ov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Učinkovito pravosod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76AF-07E2-4F80-8CF4-0C80DAB015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184440" y="782640"/>
            <a:ext cx="2863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Od razvoja do trg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4" name="Ograda vsebin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8991720" cy="5497560"/>
          </a:xfrm>
          <a:prstGeom prst="rect">
            <a:avLst/>
          </a:prstGeom>
          <a:ln w="0">
            <a:noFill/>
          </a:ln>
        </p:spPr>
      </p:pic>
      <p:sp>
        <p:nvSpPr>
          <p:cNvPr id="875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1A10-9D08-40A3-8814-7C808BD46D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oljeZBesedilom 6"/>
          <p:cNvSpPr/>
          <p:nvPr/>
        </p:nvSpPr>
        <p:spPr>
          <a:xfrm>
            <a:off x="1893960" y="1973160"/>
            <a:ext cx="13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Bazična zna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oljeZBesedilom 7"/>
          <p:cNvSpPr/>
          <p:nvPr/>
        </p:nvSpPr>
        <p:spPr>
          <a:xfrm>
            <a:off x="3657600" y="3003480"/>
            <a:ext cx="53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Izboljš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mednarodne konkurenčnosti in odličnosti raziska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za sodelovanje v verigah  vred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oljeZBesedilom 9"/>
          <p:cNvSpPr/>
          <p:nvPr/>
        </p:nvSpPr>
        <p:spPr>
          <a:xfrm>
            <a:off x="771480" y="360360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TRDITEV KONCEP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oljeZBesedilom 10"/>
          <p:cNvSpPr/>
          <p:nvPr/>
        </p:nvSpPr>
        <p:spPr>
          <a:xfrm>
            <a:off x="2398680" y="492588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ROTOT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oljeZBesedilom 11"/>
          <p:cNvSpPr/>
          <p:nvPr/>
        </p:nvSpPr>
        <p:spPr>
          <a:xfrm>
            <a:off x="4975200" y="6119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T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oljeZBesedilom 13"/>
          <p:cNvSpPr/>
          <p:nvPr/>
        </p:nvSpPr>
        <p:spPr>
          <a:xfrm>
            <a:off x="5189400" y="3745080"/>
            <a:ext cx="395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dpora RRI procesom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Manjši inovacijski projek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ME Instr. Plu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rojek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Večji  RRI projek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oljeZBesedilom 16"/>
          <p:cNvSpPr/>
          <p:nvPr/>
        </p:nvSpPr>
        <p:spPr>
          <a:xfrm>
            <a:off x="7772400" y="5568840"/>
            <a:ext cx="12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  <a:ea typeface="Arial"/>
              </a:rPr>
              <a:t>Podpora naložbam: Povratna sredst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uščica dol 4"/>
          <p:cNvSpPr/>
          <p:nvPr/>
        </p:nvSpPr>
        <p:spPr>
          <a:xfrm>
            <a:off x="3098880" y="2692440"/>
            <a:ext cx="243036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263160" bIns="263160" anchor="ctr">
            <a:noAutofit/>
          </a:bodyPr>
          <a:p>
            <a:pPr algn="ctr">
              <a:lnSpc>
                <a:spcPct val="90000"/>
              </a:lnSpc>
              <a:spcAft>
                <a:spcPts val="1613"/>
              </a:spcAft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oljeZBesedilom 2"/>
          <p:cNvSpPr/>
          <p:nvPr/>
        </p:nvSpPr>
        <p:spPr>
          <a:xfrm>
            <a:off x="2662200" y="1419120"/>
            <a:ext cx="2997360" cy="67320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ljša izraba in razvoj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ziskovalne infrastruk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oljeZBesedilom 18"/>
          <p:cNvSpPr/>
          <p:nvPr/>
        </p:nvSpPr>
        <p:spPr>
          <a:xfrm>
            <a:off x="3228840" y="6481800"/>
            <a:ext cx="3503880" cy="39888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ovativna javna naročila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oljeZBesedilom 19"/>
          <p:cNvSpPr/>
          <p:nvPr/>
        </p:nvSpPr>
        <p:spPr>
          <a:xfrm>
            <a:off x="1974960" y="465120"/>
            <a:ext cx="2879640" cy="94752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omplementarnost z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zorje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20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(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Teamin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ERC, Twinning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oljeZBesedilom 20"/>
          <p:cNvSpPr/>
          <p:nvPr/>
        </p:nvSpPr>
        <p:spPr>
          <a:xfrm>
            <a:off x="6732720" y="6481800"/>
            <a:ext cx="2411280" cy="39888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nternacionaliz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oljeZBesedilom 21"/>
          <p:cNvSpPr/>
          <p:nvPr/>
        </p:nvSpPr>
        <p:spPr>
          <a:xfrm>
            <a:off x="3657600" y="3645000"/>
            <a:ext cx="5261040" cy="398880"/>
          </a:xfrm>
          <a:prstGeom prst="rect">
            <a:avLst/>
          </a:prstGeom>
          <a:gradFill rotWithShape="0">
            <a:gsLst>
              <a:gs pos="0">
                <a:srgbClr val="9ac3f6"/>
              </a:gs>
              <a:gs pos="100000">
                <a:srgbClr val="e1ecfb"/>
              </a:gs>
            </a:gsLst>
            <a:lin ang="5400000"/>
          </a:gradFill>
          <a:ln cap="rnd" w="316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Mednarodne iniciative (EUREKA)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10A-EA2F-4811-9462-26966211DEE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0" name="Picture 2" descr="naslovna slika 1"/>
          <p:cNvPicPr/>
          <p:nvPr/>
        </p:nvPicPr>
        <p:blipFill>
          <a:blip r:embed="rId1"/>
          <a:stretch/>
        </p:blipFill>
        <p:spPr>
          <a:xfrm>
            <a:off x="-14400" y="3313080"/>
            <a:ext cx="9174240" cy="3429000"/>
          </a:xfrm>
          <a:prstGeom prst="rect">
            <a:avLst/>
          </a:prstGeom>
          <a:ln w="0">
            <a:noFill/>
          </a:ln>
        </p:spPr>
      </p:pic>
      <p:pic>
        <p:nvPicPr>
          <p:cNvPr id="891" name="Pravokotnik 7" descr=""/>
          <p:cNvPicPr/>
          <p:nvPr/>
        </p:nvPicPr>
        <p:blipFill>
          <a:blip r:embed="rId2"/>
          <a:stretch/>
        </p:blipFill>
        <p:spPr>
          <a:xfrm>
            <a:off x="3517920" y="1676520"/>
            <a:ext cx="3621240" cy="1689120"/>
          </a:xfrm>
          <a:prstGeom prst="rect">
            <a:avLst/>
          </a:prstGeom>
          <a:ln w="0">
            <a:noFill/>
          </a:ln>
        </p:spPr>
      </p:pic>
      <p:sp>
        <p:nvSpPr>
          <p:cNvPr id="892" name="PoljeZBesedilom 8"/>
          <p:cNvSpPr/>
          <p:nvPr/>
        </p:nvSpPr>
        <p:spPr>
          <a:xfrm>
            <a:off x="6656400" y="3936960"/>
            <a:ext cx="23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bf9000"/>
                </a:solidFill>
                <a:latin typeface="Calibri"/>
                <a:ea typeface="Arial"/>
              </a:rPr>
              <a:t>gorazd.jenko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3"/>
          <a:stretch/>
        </p:blipFill>
        <p:spPr>
          <a:xfrm>
            <a:off x="-271440" y="-392040"/>
            <a:ext cx="3495600" cy="2293920"/>
          </a:xfrm>
          <a:prstGeom prst="rect">
            <a:avLst/>
          </a:prstGeom>
          <a:ln w="0">
            <a:noFill/>
          </a:ln>
        </p:spPr>
      </p:pic>
      <p:sp>
        <p:nvSpPr>
          <p:cNvPr id="894" name="PoljeZBesedilom 8"/>
          <p:cNvSpPr/>
          <p:nvPr/>
        </p:nvSpPr>
        <p:spPr>
          <a:xfrm>
            <a:off x="0" y="3070080"/>
            <a:ext cx="23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bf9000"/>
                </a:solidFill>
                <a:latin typeface="Calibri"/>
                <a:ea typeface="Arial"/>
              </a:rPr>
              <a:t>peter.wostner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oljeZBesedilom 8"/>
          <p:cNvSpPr/>
          <p:nvPr/>
        </p:nvSpPr>
        <p:spPr>
          <a:xfrm>
            <a:off x="235080" y="6373800"/>
            <a:ext cx="24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bf9000"/>
                </a:solidFill>
                <a:latin typeface="Calibri"/>
                <a:ea typeface="Arial"/>
              </a:rPr>
              <a:t>simona.hocevar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oljeZBesedilom 8"/>
          <p:cNvSpPr/>
          <p:nvPr/>
        </p:nvSpPr>
        <p:spPr>
          <a:xfrm>
            <a:off x="6827760" y="6432480"/>
            <a:ext cx="23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bf9000"/>
                </a:solidFill>
                <a:latin typeface="Calibri"/>
                <a:ea typeface="Arial"/>
              </a:rPr>
              <a:t>marko.hren@gov.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7429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Cilj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Ograda številke diapozitiva 3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D3AF-B01A-46C0-9E43-51FD638473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25520" y="1404720"/>
            <a:ext cx="7773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Dvig dodane vrednosti na zaposlenega </a:t>
            </a:r>
            <a:r>
              <a:rPr b="0" lang="sl-S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 ravni posameznih prednostnih področij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večan delež visokotehnološko intenzivnih proizvodov v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izvozu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dvig od 22,3 % na povprečno raven EU-15 (26,5 %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večan delež izvoza storitev z visokim deležem znanja v celotnem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izvozu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od 21,4 % na 33 %, kar pomeni prepolovitev zaostanka do povprečja E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vig celotne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odjetniške aktivnosti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 sedanjih 11 % vsaj na raven povprečja EU, to je 12,8 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Ambicija SI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 (na prednostnih nišnih področj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222a35"/>
                </a:solidFill>
                <a:latin typeface="Calibri"/>
              </a:rPr>
              <a:t>od sledilca v </a:t>
            </a:r>
            <a:r>
              <a:rPr b="1" lang="sl-SI" sz="2400" spc="-1" strike="noStrike" u="sng">
                <a:solidFill>
                  <a:srgbClr val="222a35"/>
                </a:solidFill>
                <a:uFillTx/>
                <a:latin typeface="Calibri"/>
              </a:rPr>
              <a:t>soustvarjalca globalnih trendo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312480" y="542520"/>
            <a:ext cx="851508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Bistvo S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4 potrebujemo za </a:t>
            </a:r>
            <a:r>
              <a:rPr b="0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OSREDOTOČENJE razvojnih vlaganj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na področja, kjer ima Slovenija kritično maso znanja, kapacitet in kompetenc in na katerih ima inovacijski potencial z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pozicioniranje na globalnih trgih ter </a:t>
            </a: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z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Calibri"/>
              </a:rPr>
              <a:t>(ii) krepitev SI prepoznavnosti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 u="sng">
                <a:solidFill>
                  <a:srgbClr val="ff0000"/>
                </a:solidFill>
                <a:uFillTx/>
                <a:latin typeface="Calibri"/>
              </a:rPr>
              <a:t>PRIORITIZACIJA</a:t>
            </a:r>
            <a:r>
              <a:rPr b="0" i="1" lang="sl-SI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sl-SI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i="1" lang="sl-S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800" spc="-1" strike="noStrike" u="sng">
                <a:solidFill>
                  <a:srgbClr val="2e75b6"/>
                </a:solidFill>
                <a:uFillTx/>
                <a:latin typeface="Calibri"/>
              </a:rPr>
              <a:t>PREDNOSTNA PODROČ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4 je platforma za </a:t>
            </a:r>
            <a:r>
              <a:rPr b="0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OVEZOVANJE in </a:t>
            </a:r>
            <a:r>
              <a:rPr b="0" i="1" lang="sl-SI" sz="2800" spc="-1" strike="noStrike" u="sng">
                <a:solidFill>
                  <a:srgbClr val="ff0000"/>
                </a:solidFill>
                <a:uFillTx/>
                <a:latin typeface="Calibri"/>
              </a:rPr>
              <a:t>SODELOVANJE 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za</a:t>
            </a:r>
            <a:r>
              <a:rPr b="0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odenje usklajene razvojne politike inovacij 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sl-SI" sz="2800" spc="-1" strike="noStrike" u="sng">
                <a:solidFill>
                  <a:srgbClr val="2e75b6"/>
                </a:solidFill>
                <a:uFillTx/>
                <a:latin typeface="Calibri"/>
              </a:rPr>
              <a:t>UPRAVLJANJE (Strateška partnerst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214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 Light"/>
              </a:rPr>
              <a:t>Glavne usmeritve S4 pristop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72880" y="1854000"/>
            <a:ext cx="87076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Konsistentnost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TRL, čas, velikost projekt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Celovit pristop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: RRI, infrastruktura, človeški viri, ukrepi na strani povpraševanja, regulacija, internacionalizaci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Strateški pristop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z jasno opredeljenimi prioritetami in prilagojeno strukturo upravlj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Dopolnjevanje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glede na druge instrumente (vzvod) ter med nepovratnimi in povratnimi oblikami podp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Obstoječe in prihajajoče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ndustrije (ciljno 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0000"/>
                </a:solidFill>
                <a:uFillTx/>
                <a:latin typeface="Calibri"/>
              </a:rPr>
              <a:t>Prilagojen odziv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glede na specifičnosti priorit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C54A-C341-43F6-B5D6-0A27965A17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PREDNOSTNA PODROČJA</a:t>
            </a:r>
            <a:br>
              <a:rPr sz="4000"/>
            </a:b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                                        </a:t>
            </a:r>
            <a:r>
              <a:rPr b="1" i="1" lang="sl-SI" sz="4000" spc="-1" strike="noStrike">
                <a:solidFill>
                  <a:srgbClr val="ff0000"/>
                </a:solidFill>
                <a:latin typeface="Calibri Light"/>
              </a:rPr>
              <a:t>PRIORITIZACIJ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25" name="Ograda številke diapozitiva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2BF3-4B1C-4328-8989-D2D715166C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9960" y="2667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44546a"/>
                </a:solidFill>
                <a:latin typeface="Calibri Light"/>
              </a:rPr>
              <a:t>Utemeljitev prednostnih področij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Ograda številke diapozitiva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9998-13F4-479B-944C-93854A8412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Slika 5" descr=""/>
          <p:cNvPicPr/>
          <p:nvPr/>
        </p:nvPicPr>
        <p:blipFill>
          <a:blip r:embed="rId1"/>
          <a:stretch/>
        </p:blipFill>
        <p:spPr>
          <a:xfrm>
            <a:off x="482760" y="1179360"/>
            <a:ext cx="817848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Ograda številke diapozitiva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5E08-870B-4854-844B-8B4B3FA9BEA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294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d5b93"/>
                </a:solidFill>
                <a:latin typeface="Calibri Light"/>
              </a:rPr>
              <a:t>Prednostna področj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1" name="Ograda vsebine 8" descr=""/>
          <p:cNvPicPr/>
          <p:nvPr/>
        </p:nvPicPr>
        <p:blipFill>
          <a:blip r:embed="rId1"/>
          <a:stretch/>
        </p:blipFill>
        <p:spPr>
          <a:xfrm>
            <a:off x="646200" y="676440"/>
            <a:ext cx="7907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 Light"/>
              </a:rPr>
              <a:t>UPRAVLJANJE         -       </a:t>
            </a:r>
            <a:r>
              <a:rPr b="1" i="1" lang="sl-SI" sz="4000" spc="-1" strike="noStrike">
                <a:solidFill>
                  <a:srgbClr val="ff0000"/>
                </a:solidFill>
                <a:latin typeface="Calibri Light"/>
              </a:rPr>
              <a:t>SODELOVANJ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4" name="Ograda številke diapozitiva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5D7C-6B19-458B-9C3C-E49EB725BE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Enakokraki trikotnik 7"/>
          <p:cNvSpPr/>
          <p:nvPr/>
        </p:nvSpPr>
        <p:spPr>
          <a:xfrm>
            <a:off x="0" y="30240"/>
            <a:ext cx="9144000" cy="6827760"/>
          </a:xfrm>
          <a:prstGeom prst="triangle">
            <a:avLst>
              <a:gd name="adj" fmla="val 50000"/>
            </a:avLst>
          </a:prstGeom>
          <a:solidFill>
            <a:srgbClr val="5b9bd5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Ograda vsebine 4" descr=""/>
          <p:cNvPicPr/>
          <p:nvPr/>
        </p:nvPicPr>
        <p:blipFill>
          <a:blip r:embed="rId1"/>
          <a:stretch/>
        </p:blipFill>
        <p:spPr>
          <a:xfrm>
            <a:off x="676440" y="4668840"/>
            <a:ext cx="7900920" cy="1781280"/>
          </a:xfrm>
          <a:prstGeom prst="rect">
            <a:avLst/>
          </a:prstGeom>
          <a:ln w="0">
            <a:noFill/>
          </a:ln>
        </p:spPr>
      </p:pic>
      <p:sp>
        <p:nvSpPr>
          <p:cNvPr id="837" name="Ograda številke diapozitiva 3"/>
          <p:cNvSpPr/>
          <p:nvPr/>
        </p:nvSpPr>
        <p:spPr>
          <a:xfrm>
            <a:off x="65102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4D7-D317-4811-8A27-94CFE05CDF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8" name="Pravokotnik 5" descr=""/>
          <p:cNvPicPr/>
          <p:nvPr/>
        </p:nvPicPr>
        <p:blipFill>
          <a:blip r:embed="rId2"/>
          <a:stretch/>
        </p:blipFill>
        <p:spPr>
          <a:xfrm>
            <a:off x="2077920" y="743040"/>
            <a:ext cx="4951440" cy="1566720"/>
          </a:xfrm>
          <a:prstGeom prst="rect">
            <a:avLst/>
          </a:prstGeom>
          <a:ln w="0">
            <a:noFill/>
          </a:ln>
        </p:spPr>
      </p:pic>
      <p:pic>
        <p:nvPicPr>
          <p:cNvPr id="839" name="Pravokotnik 6" descr=""/>
          <p:cNvPicPr/>
          <p:nvPr/>
        </p:nvPicPr>
        <p:blipFill>
          <a:blip r:embed="rId3"/>
          <a:stretch/>
        </p:blipFill>
        <p:spPr>
          <a:xfrm>
            <a:off x="646200" y="2724120"/>
            <a:ext cx="7802640" cy="914400"/>
          </a:xfrm>
          <a:prstGeom prst="rect">
            <a:avLst/>
          </a:prstGeom>
          <a:ln w="0">
            <a:noFill/>
          </a:ln>
        </p:spPr>
      </p:pic>
      <p:sp>
        <p:nvSpPr>
          <p:cNvPr id="840" name="Enakokraki trikotnik 8"/>
          <p:cNvSpPr/>
          <p:nvPr/>
        </p:nvSpPr>
        <p:spPr>
          <a:xfrm>
            <a:off x="152280" y="182520"/>
            <a:ext cx="9144000" cy="6827760"/>
          </a:xfrm>
          <a:prstGeom prst="triangle">
            <a:avLst>
              <a:gd name="adj" fmla="val 50000"/>
            </a:avLst>
          </a:prstGeom>
          <a:solidFill>
            <a:srgbClr val="5b9bd5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1" name="Skupina 1"/>
          <p:cNvGrpSpPr/>
          <p:nvPr/>
        </p:nvGrpSpPr>
        <p:grpSpPr>
          <a:xfrm>
            <a:off x="573120" y="4438800"/>
            <a:ext cx="8101080" cy="1662120"/>
            <a:chOff x="573120" y="4438800"/>
            <a:chExt cx="8101080" cy="1662120"/>
          </a:xfrm>
        </p:grpSpPr>
        <p:pic>
          <p:nvPicPr>
            <p:cNvPr id="842" name="Pravokotnik 9" descr=""/>
            <p:cNvPicPr/>
            <p:nvPr/>
          </p:nvPicPr>
          <p:blipFill>
            <a:blip r:embed="rId4"/>
            <a:stretch/>
          </p:blipFill>
          <p:spPr>
            <a:xfrm>
              <a:off x="573120" y="4950000"/>
              <a:ext cx="810108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ravokotnik 10" descr=""/>
            <p:cNvPicPr/>
            <p:nvPr/>
          </p:nvPicPr>
          <p:blipFill>
            <a:blip r:embed="rId5"/>
            <a:stretch/>
          </p:blipFill>
          <p:spPr>
            <a:xfrm>
              <a:off x="573120" y="4438800"/>
              <a:ext cx="8101080" cy="79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Peter Wostner</cp:lastModifiedBy>
  <cp:lastPrinted>2015-06-01T06:13:16Z</cp:lastPrinted>
  <dcterms:modified xsi:type="dcterms:W3CDTF">2015-11-10T08:06:23Z</dcterms:modified>
  <cp:revision>260</cp:revision>
  <dc:subject/>
  <dc:title>PowerPoint Presentation</dc:title>
</cp:coreProperties>
</file>